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720C-74A3-4A2D-A162-7210CFDA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6678-D9A1-492C-8347-F6E522E9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A9C5-5D9F-4914-A432-917DED8B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077D-639A-4CEA-9903-B1DA4DB7C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0CD9-693D-4F2E-AEEA-6B91B64E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3C09-1518-4D47-9CE8-61C929D4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89F4-FF89-44F7-B32D-BE57232B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D7DE-338E-4146-B6FC-38F29F0C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7A30-2412-4D20-A70E-8ED11E36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5FEE-FA94-4B11-BF72-EEE73C9D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C9AF-B9DE-415F-BF9C-F95CAFE3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2757-951C-4E26-8988-0A358808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C299-12D0-42FD-91F2-F83BE8E6F8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16000" y="0"/>
            <a:ext cx="4140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  <a:cs typeface="????Boutros Rokaa"/>
              </a:rPr>
              <a:t>لكَ التسبيحُ والشكرا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 المجدُ يا سرّ القربان، 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كلِّ زمانٍ وكلّ مكان.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 المجدُ يا سرّ القربان، 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كلِّ زمانٍ وكلّ مكان.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جنادُ العلاء تشدو بالثناء قوّات السماء تذيع الشان ها هو عندنا باختفاء فلنسجد له بإيم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 المجدُ يا سرّ القربان، 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كلِّ زمانٍ وكلّ مكان.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هذا العيد تفيضُ النِعَم بسرٍّ به كانت الأسرار بهذا العيد تفيضُ النِعَم على جنسنا يا بني آد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ن كان فقيراً أو كان حقيراً أو كان أسيراً ليأتِ الآن يجد رباً كريماً قدير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سرّ الوداد والرضو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 المجدُ يا سرّ القربان، 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كلِّ زمانٍ وكلّ مكان.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هبوه القلوب يا مؤمنين فإن القلوبُ به تستريح هبوه القلوب يا مؤمنين فهو اشترانا بدمه الثمي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لنشكر سخاه ولنطلب رضاه نترك ما شناه لئلاّ يُهان وبعد الممات ننال سماه مقرّ النِعَم والرضو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12:23:25Z</dcterms:created>
  <dc:creator>Charbel Azar</dc:creator>
  <dc:description/>
  <dc:language>en-US</dc:language>
  <cp:lastModifiedBy>-</cp:lastModifiedBy>
  <dcterms:modified xsi:type="dcterms:W3CDTF">2003-01-26T16:49:21Z</dcterms:modified>
  <cp:revision>6</cp:revision>
  <dc:subject/>
  <dc:title>لكَ التسبيحُ والشكران لك المجدُ يا سرّ القربان، لكَ التسبيحُ والشكران بكلِّ زمانٍ وكلّ مكان. </dc:title>
</cp:coreProperties>
</file>